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7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8.png" ContentType="image/png"/>
  <Override PartName="/ppt/media/image13.png" ContentType="image/png"/>
  <Override PartName="/ppt/media/image36.wmf" ContentType="image/x-wmf"/>
  <Override PartName="/ppt/media/image37.wmf" ContentType="image/x-wmf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11.png" ContentType="image/png"/>
  <Override PartName="/ppt/media/image6.png" ContentType="image/png"/>
  <Override PartName="/ppt/media/image32.wmf" ContentType="image/x-wmf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9D00-6C47-4336-850E-E2B65ACA19C6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D8F1-29DA-4C29-A80D-D8FE32F4B2A5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92A6-7CAE-4DD2-A0D5-4941471E7BD0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59E7-4A8F-435C-942A-856B6968D38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4646-0FDD-4BA9-A724-FF3E6ED5AAA1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90B6-FC29-4136-8182-F35F0840FCE1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48FE-24FC-4A8B-B0C6-2E36F88E1E67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1537-0B0E-484A-A9DB-E452D421D3DF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AE6B-8676-4061-A69E-954EAE85001C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9735-D22C-4499-AC4C-AE0EC9E8F122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89D4-3FF2-4B27-B192-B99B21353036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3A01-5DAA-428A-9B87-3BC948702A67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EA65-5B9F-4046-AA0C-E08527A860F4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A103-5830-4921-9ECD-04B78EB404B0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4446-63BF-4D53-B27C-090BE2702C29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0D0E-233C-42EF-97F6-DC3C919FE783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20D7-2014-4B1B-B3B2-F1925F259C52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2FB0-0B4B-4269-BD14-CA499050D53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A9D2-4CA0-41E2-8810-9FBEBF447F0D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1039-4384-4DA7-9F84-AC7BD5F3995D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19BC-F514-413E-9FE1-48D7D33D55A0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6E89-BEB1-49FB-985C-B9D8FB092B71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98EA-EB60-43E9-BDB5-DED011DE3812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52ED-B897-45DE-877E-3232C16EFC69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B08A-D667-4B31-9CF0-A95E37C2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FF1-7D04-493F-8995-36C8F5FF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D6A5-2E3F-4FBA-9E9B-AF497DEF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E012-0315-4F9F-AA3E-0BB1BAD6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EE8D-C783-4229-8FEB-0B734F14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32A8-D625-44B3-A468-A71F9027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D9A-34E8-4D86-9772-789C5E93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8948-429F-47FA-AEF6-D9D42CDB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BF5A-0986-4B53-983D-F534E006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FC33-9704-4645-BB2C-D2BB568D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C1FE-263B-4312-B5F4-FA89F04B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593-2B27-4876-A391-62F4FA8D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F93A-ED46-4C68-8DF2-8D9F9B249D6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49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7" name="组合 34"/>
          <p:cNvGrpSpPr/>
          <p:nvPr/>
        </p:nvGrpSpPr>
        <p:grpSpPr>
          <a:xfrm>
            <a:off x="5699160" y="1376280"/>
            <a:ext cx="6073920" cy="4849920"/>
            <a:chOff x="5699160" y="1376280"/>
            <a:chExt cx="6073920" cy="4849920"/>
          </a:xfrm>
        </p:grpSpPr>
        <p:sp>
          <p:nvSpPr>
            <p:cNvPr id="78" name="文本框 35"/>
            <p:cNvSpPr/>
            <p:nvPr/>
          </p:nvSpPr>
          <p:spPr>
            <a:xfrm>
              <a:off x="6503760" y="1376280"/>
              <a:ext cx="500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72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汽车电工电子技术</a:t>
              </a:r>
              <a:endParaRPr b="0" lang="en-US" sz="7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" name="燕尾形 23"/>
            <p:cNvSpPr/>
            <p:nvPr/>
          </p:nvSpPr>
          <p:spPr>
            <a:xfrm>
              <a:off x="8655120" y="503388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" name="文本框 40"/>
            <p:cNvSpPr/>
            <p:nvPr/>
          </p:nvSpPr>
          <p:spPr>
            <a:xfrm>
              <a:off x="5699160" y="4486320"/>
              <a:ext cx="6073920" cy="173988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项目六 </a:t>
              </a:r>
              <a:r>
                <a:rPr b="0" lang="zh-CN" sz="3600" spc="-1" strike="noStrike">
                  <a:solidFill>
                    <a:srgbClr val="ffffff"/>
                  </a:solidFill>
                  <a:latin typeface="等线"/>
                  <a:ea typeface="思源黑体 CN Light"/>
                </a:rPr>
                <a:t>组合逻辑电路和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等线"/>
                  <a:ea typeface="思源黑体 CN Light"/>
                </a:rPr>
                <a:t>时序逻辑电路的装调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3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D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40" name="文本框 13" descr=""/>
          <p:cNvPicPr/>
          <p:nvPr/>
        </p:nvPicPr>
        <p:blipFill>
          <a:blip r:embed="rId1"/>
          <a:stretch/>
        </p:blipFill>
        <p:spPr>
          <a:xfrm>
            <a:off x="1096920" y="1042920"/>
            <a:ext cx="10095120" cy="3979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42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3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4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D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45" name="文本框 13"/>
          <p:cNvSpPr/>
          <p:nvPr/>
        </p:nvSpPr>
        <p:spPr>
          <a:xfrm>
            <a:off x="1079640" y="849240"/>
            <a:ext cx="10032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图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LS7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）的引脚功能及逻辑符号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46" name="图片 7" descr=""/>
          <p:cNvPicPr/>
          <p:nvPr/>
        </p:nvPicPr>
        <p:blipFill>
          <a:blip r:embed="rId1"/>
          <a:stretch/>
        </p:blipFill>
        <p:spPr>
          <a:xfrm>
            <a:off x="514440" y="1477800"/>
            <a:ext cx="5581440" cy="25084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1" descr=""/>
          <p:cNvPicPr/>
          <p:nvPr/>
        </p:nvPicPr>
        <p:blipFill>
          <a:blip r:embed="rId2"/>
          <a:stretch/>
        </p:blipFill>
        <p:spPr>
          <a:xfrm>
            <a:off x="7970760" y="588960"/>
            <a:ext cx="3441600" cy="32734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3" descr=""/>
          <p:cNvPicPr/>
          <p:nvPr/>
        </p:nvPicPr>
        <p:blipFill>
          <a:blip r:embed="rId3"/>
          <a:stretch/>
        </p:blipFill>
        <p:spPr>
          <a:xfrm>
            <a:off x="5925960" y="3927600"/>
            <a:ext cx="2679840" cy="253512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5"/>
          <p:cNvSpPr/>
          <p:nvPr/>
        </p:nvSpPr>
        <p:spPr>
          <a:xfrm>
            <a:off x="958680" y="4371840"/>
            <a:ext cx="60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的特性方程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151" name="对象 17"/>
          <p:cNvGraphicFramePr/>
          <p:nvPr/>
        </p:nvGraphicFramePr>
        <p:xfrm>
          <a:off x="3305160" y="4394160"/>
          <a:ext cx="925560" cy="347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对象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5160" y="4394160"/>
                    <a:ext cx="9255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图片 18" descr=""/>
          <p:cNvPicPr/>
          <p:nvPr/>
        </p:nvPicPr>
        <p:blipFill>
          <a:blip r:embed="rId6"/>
          <a:stretch/>
        </p:blipFill>
        <p:spPr>
          <a:xfrm>
            <a:off x="9399600" y="4194000"/>
            <a:ext cx="2001960" cy="2001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55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6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7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计数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58" name="文本框 13"/>
          <p:cNvSpPr/>
          <p:nvPr/>
        </p:nvSpPr>
        <p:spPr>
          <a:xfrm>
            <a:off x="1146240" y="1042920"/>
            <a:ext cx="10032840" cy="34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数字系统中使用最多的时序逻辑电路就是计数器。计数器不仅能用于对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钟脉冲计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还可以用于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分频、定时、产生节拍脉冲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进行数字运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计数器若按各个计数单元动作的次序划分，可分为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同步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异步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若按进制方式不同划分，可分为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二进制计数器、十进制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及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任意进制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若按计数过程中数字的增减划分，可分为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加法计数器、减法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加减均可的可逆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集成计数器具有功能完善、通用性强、功耗低、工作速度快、功能可扩展等许多优点，应用广泛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集成同步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电路复杂，但计数速度快，多用在计算机电路中。目前生产的同步计数器芯片分为二进制和十进制两种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集成异步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电路简单，但计数速度慢，多用于仪器、仪表中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60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1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2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计数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63" name="文本框 13"/>
          <p:cNvSpPr/>
          <p:nvPr/>
        </p:nvSpPr>
        <p:spPr>
          <a:xfrm>
            <a:off x="1146240" y="1042920"/>
            <a:ext cx="1003284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1.</a:t>
            </a: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四位同步二进制计数器</a:t>
            </a:r>
            <a:r>
              <a:rPr b="1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74LS161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四位同步二进制加法计数器</a:t>
            </a: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74LS161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具有</a:t>
            </a:r>
            <a:r>
              <a:rPr b="0" lang="zh-CN" sz="18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计数、保持、预置、清零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功能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64" name="图片 8" descr=""/>
          <p:cNvPicPr/>
          <p:nvPr/>
        </p:nvPicPr>
        <p:blipFill>
          <a:blip r:embed="rId1"/>
          <a:stretch/>
        </p:blipFill>
        <p:spPr>
          <a:xfrm>
            <a:off x="584280" y="2430360"/>
            <a:ext cx="3673440" cy="247356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0" descr=""/>
          <p:cNvPicPr/>
          <p:nvPr/>
        </p:nvPicPr>
        <p:blipFill>
          <a:blip r:embed="rId2"/>
          <a:stretch/>
        </p:blipFill>
        <p:spPr>
          <a:xfrm>
            <a:off x="4305240" y="2192400"/>
            <a:ext cx="7645320" cy="2757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6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8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9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计数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70" name="图片 2" descr=""/>
          <p:cNvPicPr/>
          <p:nvPr/>
        </p:nvPicPr>
        <p:blipFill>
          <a:blip r:embed="rId1"/>
          <a:stretch/>
        </p:blipFill>
        <p:spPr>
          <a:xfrm>
            <a:off x="733320" y="1143000"/>
            <a:ext cx="1371600" cy="71928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7"/>
          <p:cNvSpPr/>
          <p:nvPr/>
        </p:nvSpPr>
        <p:spPr>
          <a:xfrm>
            <a:off x="2293920" y="1295280"/>
            <a:ext cx="75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用</a:t>
            </a:r>
            <a:r>
              <a:rPr b="0" lang="en-US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74LS161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和必要的门电路实现十进制计数器。要求利用</a:t>
            </a:r>
            <a:r>
              <a:rPr b="0" lang="en-US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端实现。</a:t>
            </a:r>
            <a:r>
              <a:rPr b="0" lang="en-US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173" name="对象 9"/>
          <p:cNvGraphicFramePr/>
          <p:nvPr/>
        </p:nvGraphicFramePr>
        <p:xfrm>
          <a:off x="8010360" y="1295280"/>
          <a:ext cx="378000" cy="33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对象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10360" y="1295280"/>
                    <a:ext cx="3780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图片 13" descr=""/>
          <p:cNvPicPr/>
          <p:nvPr/>
        </p:nvPicPr>
        <p:blipFill>
          <a:blip r:embed="rId4"/>
          <a:stretch/>
        </p:blipFill>
        <p:spPr>
          <a:xfrm>
            <a:off x="861840" y="1724040"/>
            <a:ext cx="3668760" cy="513252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15"/>
          <p:cNvSpPr/>
          <p:nvPr/>
        </p:nvSpPr>
        <p:spPr>
          <a:xfrm>
            <a:off x="4964040" y="1781280"/>
            <a:ext cx="66945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解：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计数器采用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BCD8421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码。十进制计数器的状态如表所示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当第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1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个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CP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脉冲上升沿到来时，计数器的状态为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Q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思源黑体 CN Light"/>
              </a:rPr>
              <a:t>3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Q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思源黑体 CN Light"/>
              </a:rPr>
              <a:t>2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Q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思源黑体 CN Light"/>
              </a:rPr>
              <a:t>1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Q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思源黑体 CN Light"/>
              </a:rPr>
              <a:t>0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=101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，与非门输出低电平送到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端，计数器复位为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000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，由于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101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状态转瞬即逝，故称为过渡状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77" name="图片 16" descr="微信图片_20220508162801"/>
          <p:cNvPicPr/>
          <p:nvPr/>
        </p:nvPicPr>
        <p:blipFill>
          <a:blip r:embed="rId5"/>
          <a:stretch/>
        </p:blipFill>
        <p:spPr>
          <a:xfrm>
            <a:off x="6350040" y="3997440"/>
            <a:ext cx="3178080" cy="196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对象 17"/>
          <p:cNvGraphicFramePr/>
          <p:nvPr/>
        </p:nvGraphicFramePr>
        <p:xfrm>
          <a:off x="9150480" y="2793960"/>
          <a:ext cx="377640" cy="333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9" name="对象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50480" y="2793960"/>
                    <a:ext cx="3776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81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2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3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计数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84" name="文本框 13"/>
          <p:cNvSpPr/>
          <p:nvPr/>
        </p:nvSpPr>
        <p:spPr>
          <a:xfrm>
            <a:off x="1146240" y="1042920"/>
            <a:ext cx="1003284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2.</a:t>
            </a: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二—五—十进制异步计数器</a:t>
            </a:r>
            <a:r>
              <a:rPr b="1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74LS290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74LS290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兼有二进制、五进制和十进制三种计数功能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当十进制计数时，又有</a:t>
            </a: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8421BCD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和</a:t>
            </a: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5421BCD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码选用功能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85" name="图片 6" descr=""/>
          <p:cNvPicPr/>
          <p:nvPr/>
        </p:nvPicPr>
        <p:blipFill>
          <a:blip r:embed="rId1"/>
          <a:stretch/>
        </p:blipFill>
        <p:spPr>
          <a:xfrm>
            <a:off x="658800" y="2787480"/>
            <a:ext cx="5692680" cy="27291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8" descr=""/>
          <p:cNvPicPr/>
          <p:nvPr/>
        </p:nvPicPr>
        <p:blipFill>
          <a:blip r:embed="rId2"/>
          <a:stretch/>
        </p:blipFill>
        <p:spPr>
          <a:xfrm>
            <a:off x="7056360" y="738360"/>
            <a:ext cx="5135760" cy="5267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88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9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0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六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555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定时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91" name="文本框 13"/>
          <p:cNvSpPr/>
          <p:nvPr/>
        </p:nvSpPr>
        <p:spPr>
          <a:xfrm>
            <a:off x="1146240" y="1042920"/>
            <a:ext cx="10032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1.555</a:t>
            </a: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定时器内部结构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92" name="图片 7" descr=""/>
          <p:cNvPicPr/>
          <p:nvPr/>
        </p:nvPicPr>
        <p:blipFill>
          <a:blip r:embed="rId1"/>
          <a:stretch/>
        </p:blipFill>
        <p:spPr>
          <a:xfrm>
            <a:off x="4260960" y="506520"/>
            <a:ext cx="7785000" cy="5769000"/>
          </a:xfrm>
          <a:prstGeom prst="rect">
            <a:avLst/>
          </a:prstGeom>
          <a:ln w="0">
            <a:noFill/>
          </a:ln>
        </p:spPr>
      </p:pic>
      <p:sp>
        <p:nvSpPr>
          <p:cNvPr id="193" name="文本框 9"/>
          <p:cNvSpPr/>
          <p:nvPr/>
        </p:nvSpPr>
        <p:spPr>
          <a:xfrm>
            <a:off x="584280" y="2332080"/>
            <a:ext cx="34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由分压器、比较器、基本</a:t>
            </a:r>
            <a:r>
              <a:rPr b="0" lang="en-US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RS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触发器和放电三极管等部分组成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95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6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7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六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555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定时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98" name="文本框 13"/>
          <p:cNvSpPr/>
          <p:nvPr/>
        </p:nvSpPr>
        <p:spPr>
          <a:xfrm>
            <a:off x="1146240" y="1042920"/>
            <a:ext cx="10032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1.555</a:t>
            </a: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定时器内部结构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99" name="图片 6" descr=""/>
          <p:cNvPicPr/>
          <p:nvPr/>
        </p:nvPicPr>
        <p:blipFill>
          <a:blip r:embed="rId1"/>
          <a:stretch/>
        </p:blipFill>
        <p:spPr>
          <a:xfrm>
            <a:off x="1146240" y="2257560"/>
            <a:ext cx="2709720" cy="273996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10" descr=""/>
          <p:cNvPicPr/>
          <p:nvPr/>
        </p:nvPicPr>
        <p:blipFill>
          <a:blip r:embed="rId2"/>
          <a:stretch/>
        </p:blipFill>
        <p:spPr>
          <a:xfrm>
            <a:off x="4341960" y="849240"/>
            <a:ext cx="7284960" cy="412128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14"/>
          <p:cNvSpPr/>
          <p:nvPr/>
        </p:nvSpPr>
        <p:spPr>
          <a:xfrm>
            <a:off x="1890720" y="5356080"/>
            <a:ext cx="60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555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定时器功能表中，                                          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02" name="图片 18" descr=""/>
          <p:cNvPicPr/>
          <p:nvPr/>
        </p:nvPicPr>
        <p:blipFill>
          <a:blip r:embed="rId3"/>
          <a:stretch/>
        </p:blipFill>
        <p:spPr>
          <a:xfrm>
            <a:off x="4241880" y="5226120"/>
            <a:ext cx="2403360" cy="561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文本框 13"/>
          <p:cNvSpPr/>
          <p:nvPr/>
        </p:nvSpPr>
        <p:spPr>
          <a:xfrm>
            <a:off x="1146240" y="1042920"/>
            <a:ext cx="1003284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一、单稳态触发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单稳态触发器是只有一个稳定状态的电路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特点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：有一个稳定状态和一个暂稳态；在触发脉冲作用下，电路将从稳态翻转到暂稳态，在暂稳态停留一段时间后，又自动返回到稳定状态；暂稳态时间的长短取决于电路本身参数，与触发脉冲的宽度无关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04" name="组合 28"/>
          <p:cNvGrpSpPr/>
          <p:nvPr/>
        </p:nvGrpSpPr>
        <p:grpSpPr>
          <a:xfrm>
            <a:off x="473040" y="-264960"/>
            <a:ext cx="5160960" cy="1211040"/>
            <a:chOff x="473040" y="-264960"/>
            <a:chExt cx="5160960" cy="1211040"/>
          </a:xfrm>
        </p:grpSpPr>
        <p:sp>
          <p:nvSpPr>
            <p:cNvPr id="205" name="饼形 6"/>
            <p:cNvSpPr/>
            <p:nvPr/>
          </p:nvSpPr>
          <p:spPr>
            <a:xfrm rot="16200000">
              <a:off x="727200" y="-518760"/>
              <a:ext cx="1211040" cy="1719360"/>
            </a:xfrm>
            <a:custGeom>
              <a:avLst/>
              <a:gdLst/>
              <a:ahLst/>
              <a:rect l="l" t="t" r="r" b="b"/>
              <a:pathLst>
                <a:path w="1210658" h="1599773">
                  <a:moveTo>
                    <a:pt x="6" y="803384"/>
                  </a:moveTo>
                  <a:cubicBezTo>
                    <a:pt x="-572" y="628696"/>
                    <a:pt x="42143" y="458560"/>
                    <a:pt x="121626" y="318970"/>
                  </a:cubicBezTo>
                  <a:cubicBezTo>
                    <a:pt x="235982" y="118133"/>
                    <a:pt x="415126" y="0"/>
                    <a:pt x="605329" y="0"/>
                  </a:cubicBezTo>
                  <a:lnTo>
                    <a:pt x="605329" y="799887"/>
                  </a:lnTo>
                  <a:lnTo>
                    <a:pt x="6" y="803384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6" name="矩形 4"/>
            <p:cNvSpPr/>
            <p:nvPr/>
          </p:nvSpPr>
          <p:spPr>
            <a:xfrm>
              <a:off x="555480" y="360360"/>
              <a:ext cx="16164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7" name="文本框 5"/>
            <p:cNvSpPr/>
            <p:nvPr/>
          </p:nvSpPr>
          <p:spPr>
            <a:xfrm>
              <a:off x="1333440" y="360360"/>
              <a:ext cx="43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等线"/>
                  <a:ea typeface="思源黑体 CN Medium"/>
                </a:rPr>
                <a:t>拓展提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本框 13"/>
          <p:cNvSpPr/>
          <p:nvPr/>
        </p:nvSpPr>
        <p:spPr>
          <a:xfrm>
            <a:off x="1146240" y="1042920"/>
            <a:ext cx="10032840" cy="18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一、单稳态触发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用</a:t>
            </a: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555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定时器构成的单稳态触发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10" name="组合 28"/>
          <p:cNvGrpSpPr/>
          <p:nvPr/>
        </p:nvGrpSpPr>
        <p:grpSpPr>
          <a:xfrm>
            <a:off x="473040" y="-264960"/>
            <a:ext cx="5160960" cy="1211040"/>
            <a:chOff x="473040" y="-264960"/>
            <a:chExt cx="5160960" cy="1211040"/>
          </a:xfrm>
        </p:grpSpPr>
        <p:sp>
          <p:nvSpPr>
            <p:cNvPr id="211" name="饼形 6"/>
            <p:cNvSpPr/>
            <p:nvPr/>
          </p:nvSpPr>
          <p:spPr>
            <a:xfrm rot="16200000">
              <a:off x="727200" y="-518760"/>
              <a:ext cx="1211040" cy="1719360"/>
            </a:xfrm>
            <a:custGeom>
              <a:avLst/>
              <a:gdLst/>
              <a:ahLst/>
              <a:rect l="l" t="t" r="r" b="b"/>
              <a:pathLst>
                <a:path w="1210658" h="1599773">
                  <a:moveTo>
                    <a:pt x="6" y="803384"/>
                  </a:moveTo>
                  <a:cubicBezTo>
                    <a:pt x="-572" y="628696"/>
                    <a:pt x="42143" y="458560"/>
                    <a:pt x="121626" y="318970"/>
                  </a:cubicBezTo>
                  <a:cubicBezTo>
                    <a:pt x="235982" y="118133"/>
                    <a:pt x="415126" y="0"/>
                    <a:pt x="605329" y="0"/>
                  </a:cubicBezTo>
                  <a:lnTo>
                    <a:pt x="605329" y="799887"/>
                  </a:lnTo>
                  <a:lnTo>
                    <a:pt x="6" y="803384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2" name="矩形 4"/>
            <p:cNvSpPr/>
            <p:nvPr/>
          </p:nvSpPr>
          <p:spPr>
            <a:xfrm>
              <a:off x="555480" y="360360"/>
              <a:ext cx="16164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3" name="文本框 5"/>
            <p:cNvSpPr/>
            <p:nvPr/>
          </p:nvSpPr>
          <p:spPr>
            <a:xfrm>
              <a:off x="1333440" y="360360"/>
              <a:ext cx="43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等线"/>
                  <a:ea typeface="思源黑体 CN Medium"/>
                </a:rPr>
                <a:t>拓展提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14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15" name="图片 6" descr=""/>
          <p:cNvPicPr/>
          <p:nvPr/>
        </p:nvPicPr>
        <p:blipFill>
          <a:blip r:embed="rId1"/>
          <a:stretch/>
        </p:blipFill>
        <p:spPr>
          <a:xfrm>
            <a:off x="220680" y="2181240"/>
            <a:ext cx="7310520" cy="371628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11"/>
          <p:cNvSpPr/>
          <p:nvPr/>
        </p:nvSpPr>
        <p:spPr>
          <a:xfrm>
            <a:off x="7880400" y="2241720"/>
            <a:ext cx="27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①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稳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②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暂稳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③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自动返回稳定状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218" name="对象 13"/>
          <p:cNvGraphicFramePr/>
          <p:nvPr/>
        </p:nvGraphicFramePr>
        <p:xfrm>
          <a:off x="8448840" y="3357720"/>
          <a:ext cx="2147760" cy="37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对象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8840" y="3357720"/>
                    <a:ext cx="2147760" cy="37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文本框 15"/>
          <p:cNvSpPr/>
          <p:nvPr/>
        </p:nvSpPr>
        <p:spPr>
          <a:xfrm>
            <a:off x="7664400" y="3911760"/>
            <a:ext cx="411948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可看出，脉冲宽度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t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思源黑体 CN Light"/>
              </a:rPr>
              <a:t>w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大小与定时元件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R</a:t>
            </a:r>
            <a:r>
              <a:rPr b="0" i="1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、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C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的大小有关，而与输入脉冲宽度及电源电压大小无关，调节定时元件，可以改变输出脉冲宽度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任意多边形 26"/>
          <p:cNvSpPr/>
          <p:nvPr/>
        </p:nvSpPr>
        <p:spPr>
          <a:xfrm rot="18000000">
            <a:off x="-511920" y="-624960"/>
            <a:ext cx="2767320" cy="2826000"/>
          </a:xfrm>
          <a:custGeom>
            <a:avLst/>
            <a:gdLst/>
            <a:ahLst/>
            <a:rect l="l" t="t" r="r" b="b"/>
            <a:pathLst>
              <a:path w="1816444" h="1864752">
                <a:moveTo>
                  <a:pt x="110247" y="273208"/>
                </a:moveTo>
                <a:cubicBezTo>
                  <a:pt x="-291391" y="806608"/>
                  <a:pt x="507122" y="1827371"/>
                  <a:pt x="862722" y="1863883"/>
                </a:cubicBezTo>
                <a:cubicBezTo>
                  <a:pt x="1218322" y="1900395"/>
                  <a:pt x="1975560" y="776446"/>
                  <a:pt x="1786647" y="435133"/>
                </a:cubicBezTo>
                <a:cubicBezTo>
                  <a:pt x="1597734" y="93820"/>
                  <a:pt x="511885" y="-260192"/>
                  <a:pt x="110247" y="273208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2" name="组合 23"/>
          <p:cNvGrpSpPr/>
          <p:nvPr/>
        </p:nvGrpSpPr>
        <p:grpSpPr>
          <a:xfrm>
            <a:off x="2274840" y="1112760"/>
            <a:ext cx="7763040" cy="3934800"/>
            <a:chOff x="2274840" y="1112760"/>
            <a:chExt cx="7763040" cy="3934800"/>
          </a:xfrm>
        </p:grpSpPr>
        <p:grpSp>
          <p:nvGrpSpPr>
            <p:cNvPr id="83" name="同侧圆角矩形 10"/>
            <p:cNvGrpSpPr/>
            <p:nvPr/>
          </p:nvGrpSpPr>
          <p:grpSpPr>
            <a:xfrm>
              <a:off x="3803760" y="1112760"/>
              <a:ext cx="4206240" cy="2153520"/>
              <a:chOff x="3803760" y="1112760"/>
              <a:chExt cx="4206240" cy="2153520"/>
            </a:xfrm>
          </p:grpSpPr>
          <p:pic>
            <p:nvPicPr>
              <p:cNvPr id="84" name="同侧圆角矩形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3760" y="1112760"/>
                <a:ext cx="4206240" cy="21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3879000" y="1187280"/>
                <a:ext cx="4055400" cy="20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86" name="文本框 15"/>
            <p:cNvSpPr/>
            <p:nvPr/>
          </p:nvSpPr>
          <p:spPr>
            <a:xfrm>
              <a:off x="2274840" y="4404960"/>
              <a:ext cx="776304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等线"/>
                  <a:ea typeface="思源黑体 CN Light"/>
                </a:rPr>
                <a:t>555</a:t>
              </a:r>
              <a:r>
                <a:rPr b="0" lang="zh-CN" sz="3600" spc="-1" strike="noStrike">
                  <a:solidFill>
                    <a:srgbClr val="ffffff"/>
                  </a:solidFill>
                  <a:latin typeface="等线"/>
                  <a:ea typeface="思源黑体 CN Light"/>
                </a:rPr>
                <a:t>转向闪光讯响器电路</a:t>
              </a:r>
              <a:r>
                <a:rPr b="0" sz="3600" spc="-1" strike="noStrike">
                  <a:solidFill>
                    <a:srgbClr val="ffffff"/>
                  </a:solidFill>
                  <a:latin typeface="等线"/>
                  <a:ea typeface="思源黑体 CN Light"/>
                </a:rPr>
                <a:t>调试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" name="文本框 16"/>
            <p:cNvSpPr/>
            <p:nvPr/>
          </p:nvSpPr>
          <p:spPr>
            <a:xfrm>
              <a:off x="4056120" y="3605760"/>
              <a:ext cx="359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任务</a:t>
              </a: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8" name="梯形 11"/>
          <p:cNvSpPr/>
          <p:nvPr/>
        </p:nvSpPr>
        <p:spPr>
          <a:xfrm rot="13500000">
            <a:off x="9878040" y="-599760"/>
            <a:ext cx="2084400" cy="1511640"/>
          </a:xfrm>
          <a:custGeom>
            <a:avLst/>
            <a:gdLst/>
            <a:ahLst/>
            <a:rect l="l" t="t" r="r" b="b"/>
            <a:pathLst>
              <a:path w="3746151" h="3028357">
                <a:moveTo>
                  <a:pt x="0" y="2967887"/>
                </a:moveTo>
                <a:cubicBezTo>
                  <a:pt x="220611" y="2085442"/>
                  <a:pt x="508349" y="1157031"/>
                  <a:pt x="1046460" y="350786"/>
                </a:cubicBezTo>
                <a:cubicBezTo>
                  <a:pt x="1492718" y="-90437"/>
                  <a:pt x="2221463" y="-130261"/>
                  <a:pt x="2671411" y="316001"/>
                </a:cubicBezTo>
                <a:cubicBezTo>
                  <a:pt x="3121360" y="762263"/>
                  <a:pt x="3493909" y="2180734"/>
                  <a:pt x="3746151" y="3028357"/>
                </a:cubicBezTo>
                <a:lnTo>
                  <a:pt x="0" y="2967887"/>
                </a:lnTo>
                <a:close/>
              </a:path>
            </a:pathLst>
          </a:custGeom>
          <a:gradFill rotWithShape="0">
            <a:gsLst>
              <a:gs pos="0">
                <a:srgbClr val="1f4e79"/>
              </a:gs>
              <a:gs pos="100000">
                <a:srgbClr val="1f4e79">
                  <a:alpha val="0"/>
                </a:srgbClr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9" name="任意多边形 27"/>
          <p:cNvSpPr/>
          <p:nvPr/>
        </p:nvSpPr>
        <p:spPr>
          <a:xfrm rot="1695600">
            <a:off x="9460080" y="5675400"/>
            <a:ext cx="2309760" cy="2365200"/>
          </a:xfrm>
          <a:custGeom>
            <a:avLst/>
            <a:gdLst/>
            <a:ahLst/>
            <a:rect l="l" t="t" r="r" b="b"/>
            <a:pathLst>
              <a:path w="1810119" h="1855080">
                <a:moveTo>
                  <a:pt x="110247" y="263564"/>
                </a:moveTo>
                <a:cubicBezTo>
                  <a:pt x="-291391" y="796964"/>
                  <a:pt x="507122" y="1817727"/>
                  <a:pt x="862722" y="1854239"/>
                </a:cubicBezTo>
                <a:cubicBezTo>
                  <a:pt x="1218322" y="1890751"/>
                  <a:pt x="1950160" y="728702"/>
                  <a:pt x="1786647" y="425489"/>
                </a:cubicBezTo>
                <a:cubicBezTo>
                  <a:pt x="1623134" y="122276"/>
                  <a:pt x="511885" y="-269836"/>
                  <a:pt x="110247" y="263564"/>
                </a:cubicBezTo>
                <a:close/>
              </a:path>
            </a:pathLst>
          </a:custGeom>
          <a:gradFill rotWithShape="0">
            <a:gsLst>
              <a:gs pos="0">
                <a:srgbClr val="1f4e79">
                  <a:alpha val="40000"/>
                </a:srgbClr>
              </a:gs>
              <a:gs pos="100000">
                <a:srgbClr val="1f4e79"/>
              </a:gs>
            </a:gsLst>
            <a:lin ang="19902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文本框 13"/>
          <p:cNvSpPr/>
          <p:nvPr/>
        </p:nvSpPr>
        <p:spPr>
          <a:xfrm>
            <a:off x="1146240" y="1042920"/>
            <a:ext cx="10032840" cy="18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一、单稳态触发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单稳态触发器的应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22" name="组合 28"/>
          <p:cNvGrpSpPr/>
          <p:nvPr/>
        </p:nvGrpSpPr>
        <p:grpSpPr>
          <a:xfrm>
            <a:off x="473040" y="-264960"/>
            <a:ext cx="5160960" cy="1211040"/>
            <a:chOff x="473040" y="-264960"/>
            <a:chExt cx="5160960" cy="1211040"/>
          </a:xfrm>
        </p:grpSpPr>
        <p:sp>
          <p:nvSpPr>
            <p:cNvPr id="223" name="饼形 6"/>
            <p:cNvSpPr/>
            <p:nvPr/>
          </p:nvSpPr>
          <p:spPr>
            <a:xfrm rot="16200000">
              <a:off x="727200" y="-518760"/>
              <a:ext cx="1211040" cy="1719360"/>
            </a:xfrm>
            <a:custGeom>
              <a:avLst/>
              <a:gdLst/>
              <a:ahLst/>
              <a:rect l="l" t="t" r="r" b="b"/>
              <a:pathLst>
                <a:path w="1210658" h="1599773">
                  <a:moveTo>
                    <a:pt x="6" y="803384"/>
                  </a:moveTo>
                  <a:cubicBezTo>
                    <a:pt x="-572" y="628696"/>
                    <a:pt x="42143" y="458560"/>
                    <a:pt x="121626" y="318970"/>
                  </a:cubicBezTo>
                  <a:cubicBezTo>
                    <a:pt x="235982" y="118133"/>
                    <a:pt x="415126" y="0"/>
                    <a:pt x="605329" y="0"/>
                  </a:cubicBezTo>
                  <a:lnTo>
                    <a:pt x="605329" y="799887"/>
                  </a:lnTo>
                  <a:lnTo>
                    <a:pt x="6" y="803384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4" name="矩形 4"/>
            <p:cNvSpPr/>
            <p:nvPr/>
          </p:nvSpPr>
          <p:spPr>
            <a:xfrm>
              <a:off x="555480" y="360360"/>
              <a:ext cx="16164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5" name="文本框 5"/>
            <p:cNvSpPr/>
            <p:nvPr/>
          </p:nvSpPr>
          <p:spPr>
            <a:xfrm>
              <a:off x="1333440" y="360360"/>
              <a:ext cx="43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等线"/>
                  <a:ea typeface="思源黑体 CN Medium"/>
                </a:rPr>
                <a:t>拓展提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26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28" name="图片 7" descr=""/>
          <p:cNvPicPr/>
          <p:nvPr/>
        </p:nvPicPr>
        <p:blipFill>
          <a:blip r:embed="rId1"/>
          <a:stretch/>
        </p:blipFill>
        <p:spPr>
          <a:xfrm>
            <a:off x="1012680" y="2287440"/>
            <a:ext cx="3903840" cy="284328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16"/>
          <p:cNvSpPr/>
          <p:nvPr/>
        </p:nvSpPr>
        <p:spPr>
          <a:xfrm>
            <a:off x="5240160" y="1374840"/>
            <a:ext cx="609300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等线"/>
                <a:ea typeface="思源黑体 CN Light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等线"/>
                <a:ea typeface="思源黑体 CN Light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等线"/>
                <a:ea typeface="思源黑体 CN Light"/>
              </a:rPr>
              <a:t>）定时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单稳态触发器可以构成定时电路，与继电器或驱动放大电路配合，可实现自动控制、定时开关的功能等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思源黑体 CN Light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思源黑体 CN Light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思源黑体 CN Light"/>
              </a:rPr>
              <a:t>）分频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当一个触发脉冲使单稳态触发器进入暂稳状态，在此脉冲以后时间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t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思源黑体 CN Light"/>
              </a:rPr>
              <a:t>w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内，如果再输入其他触发脉冲，则对触发器状态不再起作用；只有当触发器处于和稳定状态时，输入的触发脉冲才起作用，分频电路正是利用这个特性将高频率信号变换为低频率信号，电路如图所示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13"/>
          <p:cNvSpPr/>
          <p:nvPr/>
        </p:nvSpPr>
        <p:spPr>
          <a:xfrm>
            <a:off x="1146240" y="1042920"/>
            <a:ext cx="1003284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二、多谐振荡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用</a:t>
            </a: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555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定时器构成的多谐振荡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31" name="组合 28"/>
          <p:cNvGrpSpPr/>
          <p:nvPr/>
        </p:nvGrpSpPr>
        <p:grpSpPr>
          <a:xfrm>
            <a:off x="473040" y="-264960"/>
            <a:ext cx="5160960" cy="1211040"/>
            <a:chOff x="473040" y="-264960"/>
            <a:chExt cx="5160960" cy="1211040"/>
          </a:xfrm>
        </p:grpSpPr>
        <p:sp>
          <p:nvSpPr>
            <p:cNvPr id="232" name="饼形 6"/>
            <p:cNvSpPr/>
            <p:nvPr/>
          </p:nvSpPr>
          <p:spPr>
            <a:xfrm rot="16200000">
              <a:off x="727200" y="-518760"/>
              <a:ext cx="1211040" cy="1719360"/>
            </a:xfrm>
            <a:custGeom>
              <a:avLst/>
              <a:gdLst/>
              <a:ahLst/>
              <a:rect l="l" t="t" r="r" b="b"/>
              <a:pathLst>
                <a:path w="1210658" h="1599773">
                  <a:moveTo>
                    <a:pt x="6" y="803384"/>
                  </a:moveTo>
                  <a:cubicBezTo>
                    <a:pt x="-572" y="628696"/>
                    <a:pt x="42143" y="458560"/>
                    <a:pt x="121626" y="318970"/>
                  </a:cubicBezTo>
                  <a:cubicBezTo>
                    <a:pt x="235982" y="118133"/>
                    <a:pt x="415126" y="0"/>
                    <a:pt x="605329" y="0"/>
                  </a:cubicBezTo>
                  <a:lnTo>
                    <a:pt x="605329" y="799887"/>
                  </a:lnTo>
                  <a:lnTo>
                    <a:pt x="6" y="803384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3" name="矩形 4"/>
            <p:cNvSpPr/>
            <p:nvPr/>
          </p:nvSpPr>
          <p:spPr>
            <a:xfrm>
              <a:off x="555480" y="360360"/>
              <a:ext cx="16164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4" name="文本框 5"/>
            <p:cNvSpPr/>
            <p:nvPr/>
          </p:nvSpPr>
          <p:spPr>
            <a:xfrm>
              <a:off x="1333440" y="360360"/>
              <a:ext cx="43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等线"/>
                  <a:ea typeface="思源黑体 CN Medium"/>
                </a:rPr>
                <a:t>拓展提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35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36" name="图片 6" descr=""/>
          <p:cNvPicPr/>
          <p:nvPr/>
        </p:nvPicPr>
        <p:blipFill>
          <a:blip r:embed="rId1"/>
          <a:stretch/>
        </p:blipFill>
        <p:spPr>
          <a:xfrm>
            <a:off x="147600" y="2178000"/>
            <a:ext cx="7880400" cy="33940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9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238" name="对象 8"/>
          <p:cNvGraphicFramePr/>
          <p:nvPr/>
        </p:nvGraphicFramePr>
        <p:xfrm>
          <a:off x="8256600" y="1960560"/>
          <a:ext cx="2566800" cy="79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对象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6600" y="1960560"/>
                    <a:ext cx="25668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文本框 10"/>
          <p:cNvSpPr/>
          <p:nvPr/>
        </p:nvSpPr>
        <p:spPr>
          <a:xfrm>
            <a:off x="8193240" y="1530360"/>
            <a:ext cx="39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两个暂稳态维持时间的计算公式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楷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1" name="文本框 12"/>
          <p:cNvSpPr/>
          <p:nvPr/>
        </p:nvSpPr>
        <p:spPr>
          <a:xfrm>
            <a:off x="7881840" y="2889360"/>
            <a:ext cx="2462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振荡周期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2" name="文本框 14"/>
          <p:cNvSpPr/>
          <p:nvPr/>
        </p:nvSpPr>
        <p:spPr>
          <a:xfrm>
            <a:off x="7897680" y="3916440"/>
            <a:ext cx="2462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振荡频率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3" name="文本框 16"/>
          <p:cNvSpPr/>
          <p:nvPr/>
        </p:nvSpPr>
        <p:spPr>
          <a:xfrm>
            <a:off x="7897680" y="4862520"/>
            <a:ext cx="225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占空比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245" name="对象 18"/>
          <p:cNvGraphicFramePr/>
          <p:nvPr/>
        </p:nvGraphicFramePr>
        <p:xfrm>
          <a:off x="8256600" y="3409920"/>
          <a:ext cx="2746440" cy="37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6" name="对象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56600" y="3409920"/>
                    <a:ext cx="274644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Rectangle 13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248" name="对象 20"/>
          <p:cNvGraphicFramePr/>
          <p:nvPr/>
        </p:nvGraphicFramePr>
        <p:xfrm>
          <a:off x="8256600" y="4402080"/>
          <a:ext cx="941400" cy="338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9" name="对象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56600" y="4402080"/>
                    <a:ext cx="9414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1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251" name="对象 22"/>
          <p:cNvGraphicFramePr/>
          <p:nvPr/>
        </p:nvGraphicFramePr>
        <p:xfrm>
          <a:off x="8193240" y="5450040"/>
          <a:ext cx="3719520" cy="717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2" name="对象 2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193240" y="5450040"/>
                    <a:ext cx="37195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文本框 13"/>
          <p:cNvSpPr/>
          <p:nvPr/>
        </p:nvSpPr>
        <p:spPr>
          <a:xfrm>
            <a:off x="1146240" y="1042920"/>
            <a:ext cx="10032840" cy="34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三、施密特触发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施密特触发器最重要的特点是能够</a:t>
            </a:r>
            <a:r>
              <a:rPr b="0" lang="zh-CN" sz="18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把变化缓慢的输入信号整形成边沿陡峭的矩形脉冲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。同时，施密特触发器还可</a:t>
            </a:r>
            <a:r>
              <a:rPr b="0" lang="zh-CN" sz="18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利用其回差电压来提高电路的抗干扰能力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施密特触发器的典型应用在</a:t>
            </a:r>
            <a:r>
              <a:rPr b="0" lang="zh-CN" sz="18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波形变换、 幅度鉴别、脉冲整形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中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54" name="组合 28"/>
          <p:cNvGrpSpPr/>
          <p:nvPr/>
        </p:nvGrpSpPr>
        <p:grpSpPr>
          <a:xfrm>
            <a:off x="473040" y="-264960"/>
            <a:ext cx="5160960" cy="1211040"/>
            <a:chOff x="473040" y="-264960"/>
            <a:chExt cx="5160960" cy="1211040"/>
          </a:xfrm>
        </p:grpSpPr>
        <p:sp>
          <p:nvSpPr>
            <p:cNvPr id="255" name="饼形 6"/>
            <p:cNvSpPr/>
            <p:nvPr/>
          </p:nvSpPr>
          <p:spPr>
            <a:xfrm rot="16200000">
              <a:off x="727200" y="-518760"/>
              <a:ext cx="1211040" cy="1719360"/>
            </a:xfrm>
            <a:custGeom>
              <a:avLst/>
              <a:gdLst/>
              <a:ahLst/>
              <a:rect l="l" t="t" r="r" b="b"/>
              <a:pathLst>
                <a:path w="1210658" h="1599773">
                  <a:moveTo>
                    <a:pt x="6" y="803384"/>
                  </a:moveTo>
                  <a:cubicBezTo>
                    <a:pt x="-572" y="628696"/>
                    <a:pt x="42143" y="458560"/>
                    <a:pt x="121626" y="318970"/>
                  </a:cubicBezTo>
                  <a:cubicBezTo>
                    <a:pt x="235982" y="118133"/>
                    <a:pt x="415126" y="0"/>
                    <a:pt x="605329" y="0"/>
                  </a:cubicBezTo>
                  <a:lnTo>
                    <a:pt x="605329" y="799887"/>
                  </a:lnTo>
                  <a:lnTo>
                    <a:pt x="6" y="803384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6" name="矩形 4"/>
            <p:cNvSpPr/>
            <p:nvPr/>
          </p:nvSpPr>
          <p:spPr>
            <a:xfrm>
              <a:off x="555480" y="360360"/>
              <a:ext cx="16164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7" name="文本框 5"/>
            <p:cNvSpPr/>
            <p:nvPr/>
          </p:nvSpPr>
          <p:spPr>
            <a:xfrm>
              <a:off x="1333440" y="360360"/>
              <a:ext cx="43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等线"/>
                  <a:ea typeface="思源黑体 CN Medium"/>
                </a:rPr>
                <a:t>拓展提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58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5995800" y="121680"/>
            <a:ext cx="20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等线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64" name="图片 6" descr=""/>
          <p:cNvPicPr/>
          <p:nvPr/>
        </p:nvPicPr>
        <p:blipFill>
          <a:blip r:embed="rId1"/>
          <a:stretch/>
        </p:blipFill>
        <p:spPr>
          <a:xfrm>
            <a:off x="636480" y="2946240"/>
            <a:ext cx="6462720" cy="355140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8" descr=""/>
          <p:cNvPicPr/>
          <p:nvPr/>
        </p:nvPicPr>
        <p:blipFill>
          <a:blip r:embed="rId2"/>
          <a:stretch/>
        </p:blipFill>
        <p:spPr>
          <a:xfrm>
            <a:off x="7297560" y="3121200"/>
            <a:ext cx="458820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267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8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9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0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1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2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3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4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5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6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7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8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9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0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1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2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3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4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5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6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7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8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9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0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1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2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3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4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95" name="组合 34"/>
          <p:cNvGrpSpPr/>
          <p:nvPr/>
        </p:nvGrpSpPr>
        <p:grpSpPr>
          <a:xfrm>
            <a:off x="6383160" y="1542960"/>
            <a:ext cx="5008680" cy="3772080"/>
            <a:chOff x="6383160" y="1542960"/>
            <a:chExt cx="5008680" cy="3772080"/>
          </a:xfrm>
        </p:grpSpPr>
        <p:sp>
          <p:nvSpPr>
            <p:cNvPr id="296" name="文本框 35"/>
            <p:cNvSpPr/>
            <p:nvPr/>
          </p:nvSpPr>
          <p:spPr>
            <a:xfrm>
              <a:off x="6383160" y="1542960"/>
              <a:ext cx="5008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再接再厉</a:t>
              </a:r>
              <a:endParaRPr b="0" lang="en-US" sz="8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7" name="文本框 38"/>
            <p:cNvSpPr/>
            <p:nvPr/>
          </p:nvSpPr>
          <p:spPr>
            <a:xfrm>
              <a:off x="6454440" y="3957480"/>
              <a:ext cx="28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b3838"/>
                  </a:solidFill>
                  <a:latin typeface="思源黑体 CN Light"/>
                  <a:ea typeface="思源黑体 CN Light"/>
                </a:rPr>
                <a:t>引领世界，创造未来 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8" name="燕尾形 23"/>
            <p:cNvSpPr/>
            <p:nvPr/>
          </p:nvSpPr>
          <p:spPr>
            <a:xfrm>
              <a:off x="8534160" y="520092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91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描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4" name="文本框 5"/>
          <p:cNvSpPr/>
          <p:nvPr/>
        </p:nvSpPr>
        <p:spPr>
          <a:xfrm>
            <a:off x="1477800" y="1913040"/>
            <a:ext cx="9236160" cy="113544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客户的一辆轿车，转向系统故障，来某</a:t>
            </a:r>
            <a:r>
              <a:rPr b="0" lang="en-US" sz="20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4S</a:t>
            </a: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店维修。客户想了解汽车转向系统的工作原理，请根据客户需要，按要求完成相应的工作任务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汽车左转弯时，左转向灯闪亮，同时扬声器发出“嘀嘀”的转向提醒声；汽车右转弯时，右转向灯闪亮，同时扬声器发出“嘀嘀”的转向提醒声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96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引导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9" name="文本框 5"/>
          <p:cNvSpPr/>
          <p:nvPr/>
        </p:nvSpPr>
        <p:spPr>
          <a:xfrm>
            <a:off x="1528920" y="2468520"/>
            <a:ext cx="8956440" cy="228852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时序逻辑电路和组合逻辑电路有什么不同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常见触发器有哪些，它们分别有什么作用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0" name="文本框 2"/>
          <p:cNvSpPr/>
          <p:nvPr/>
        </p:nvSpPr>
        <p:spPr>
          <a:xfrm>
            <a:off x="1433520" y="1459080"/>
            <a:ext cx="895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请思考：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02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3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基本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RS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5" name="文本框 13"/>
          <p:cNvSpPr/>
          <p:nvPr/>
        </p:nvSpPr>
        <p:spPr>
          <a:xfrm>
            <a:off x="1146240" y="1042920"/>
            <a:ext cx="10032840" cy="21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构上分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可分为基本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、同步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。不同结构的触发器状态变化的时间不一样。基本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的输出直接由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状态决定，原状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变化前的触发器状态，状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+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变化后的触发器状态，即按输入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信号变化划分原状态和次状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基本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S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触发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由两个与非门的输出端和输入端交叉反馈相接，逻辑电路如图所示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06" name="图片 11" descr=""/>
          <p:cNvPicPr/>
          <p:nvPr/>
        </p:nvPicPr>
        <p:blipFill>
          <a:blip r:embed="rId1"/>
          <a:stretch/>
        </p:blipFill>
        <p:spPr>
          <a:xfrm>
            <a:off x="733320" y="3666960"/>
            <a:ext cx="3881520" cy="19735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3" descr=""/>
          <p:cNvPicPr/>
          <p:nvPr/>
        </p:nvPicPr>
        <p:blipFill>
          <a:blip r:embed="rId2"/>
          <a:stretch/>
        </p:blipFill>
        <p:spPr>
          <a:xfrm>
            <a:off x="4815000" y="3492360"/>
            <a:ext cx="3581280" cy="21862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5" descr=""/>
          <p:cNvPicPr/>
          <p:nvPr/>
        </p:nvPicPr>
        <p:blipFill>
          <a:blip r:embed="rId3"/>
          <a:stretch/>
        </p:blipFill>
        <p:spPr>
          <a:xfrm>
            <a:off x="8510760" y="3429000"/>
            <a:ext cx="2509560" cy="2195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10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1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2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同步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RS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13" name="文本框 13"/>
          <p:cNvSpPr/>
          <p:nvPr/>
        </p:nvSpPr>
        <p:spPr>
          <a:xfrm>
            <a:off x="1146240" y="1042920"/>
            <a:ext cx="100328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实际应用中，当一个逻辑电路中有多个触发器时，为使各触发器输出状态的变化在规定时刻发生，触发器的工作状态不仅要由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端的信号来决定，而且还希望触发器按一定的节拍翻转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此，给触发器引入了一个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钟脉冲信号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作为触发器状态翻转时刻的控制信号。只有在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端上出现时钟脉冲时，触发器的状态才能变化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具有时钟脉冲控制的触发器称为同步触发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同步触发器状态的变化不仅取决于输入信号的变化，还取决于时钟脉冲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作用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15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6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同步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RS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18" name="文本框 13"/>
          <p:cNvSpPr/>
          <p:nvPr/>
        </p:nvSpPr>
        <p:spPr>
          <a:xfrm>
            <a:off x="1146240" y="1042920"/>
            <a:ext cx="10032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同步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与非门组成，逻辑电路及逻辑符号如图所示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19" name="图片 6" descr=""/>
          <p:cNvPicPr/>
          <p:nvPr/>
        </p:nvPicPr>
        <p:blipFill>
          <a:blip r:embed="rId1"/>
          <a:stretch/>
        </p:blipFill>
        <p:spPr>
          <a:xfrm>
            <a:off x="138240" y="1878120"/>
            <a:ext cx="4427280" cy="310176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8" descr=""/>
          <p:cNvPicPr/>
          <p:nvPr/>
        </p:nvPicPr>
        <p:blipFill>
          <a:blip r:embed="rId2"/>
          <a:stretch/>
        </p:blipFill>
        <p:spPr>
          <a:xfrm>
            <a:off x="4565520" y="1932120"/>
            <a:ext cx="3205440" cy="299376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0" descr=""/>
          <p:cNvPicPr/>
          <p:nvPr/>
        </p:nvPicPr>
        <p:blipFill>
          <a:blip r:embed="rId3"/>
          <a:stretch/>
        </p:blipFill>
        <p:spPr>
          <a:xfrm>
            <a:off x="7770960" y="2247840"/>
            <a:ext cx="4319280" cy="2541600"/>
          </a:xfrm>
          <a:prstGeom prst="rect">
            <a:avLst/>
          </a:prstGeom>
          <a:ln w="0">
            <a:noFill/>
          </a:ln>
        </p:spPr>
      </p:pic>
      <p:pic>
        <p:nvPicPr>
          <p:cNvPr id="122" name="文本框 12" descr=""/>
          <p:cNvPicPr/>
          <p:nvPr/>
        </p:nvPicPr>
        <p:blipFill>
          <a:blip r:embed="rId4"/>
          <a:stretch/>
        </p:blipFill>
        <p:spPr>
          <a:xfrm>
            <a:off x="530280" y="5108400"/>
            <a:ext cx="11028240" cy="963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24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5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JK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27" name="文本框 13" descr=""/>
          <p:cNvPicPr/>
          <p:nvPr/>
        </p:nvPicPr>
        <p:blipFill>
          <a:blip r:embed="rId1"/>
          <a:stretch/>
        </p:blipFill>
        <p:spPr>
          <a:xfrm>
            <a:off x="1096920" y="1042920"/>
            <a:ext cx="10345680" cy="3260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29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1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JK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32" name="文本框 13"/>
          <p:cNvSpPr/>
          <p:nvPr/>
        </p:nvSpPr>
        <p:spPr>
          <a:xfrm>
            <a:off x="1079640" y="849240"/>
            <a:ext cx="10032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图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LS11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K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的引脚功能及逻辑符号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33" name="图片 6" descr=""/>
          <p:cNvPicPr/>
          <p:nvPr/>
        </p:nvPicPr>
        <p:blipFill>
          <a:blip r:embed="rId1"/>
          <a:stretch/>
        </p:blipFill>
        <p:spPr>
          <a:xfrm>
            <a:off x="403200" y="1365120"/>
            <a:ext cx="5083200" cy="232596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8" descr=""/>
          <p:cNvPicPr/>
          <p:nvPr/>
        </p:nvPicPr>
        <p:blipFill>
          <a:blip r:embed="rId2"/>
          <a:stretch/>
        </p:blipFill>
        <p:spPr>
          <a:xfrm>
            <a:off x="1917720" y="3691080"/>
            <a:ext cx="2601720" cy="312084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0" descr=""/>
          <p:cNvPicPr/>
          <p:nvPr/>
        </p:nvPicPr>
        <p:blipFill>
          <a:blip r:embed="rId3"/>
          <a:stretch/>
        </p:blipFill>
        <p:spPr>
          <a:xfrm>
            <a:off x="6526080" y="103320"/>
            <a:ext cx="5394600" cy="6708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2T02:28:00Z</dcterms:created>
  <dc:creator>优品PPT</dc:creator>
  <dc:description>http://www.ypppt.com/</dc:description>
  <dc:language>en-US</dc:language>
  <cp:lastModifiedBy>云斐 姜</cp:lastModifiedBy>
  <dcterms:modified xsi:type="dcterms:W3CDTF">2024-08-29T04:37:00Z</dcterms:modified>
  <cp:revision>3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6CB5191079E497482976228782CCEBA_13</vt:lpwstr>
  </property>
  <property fmtid="{D5CDD505-2E9C-101B-9397-08002B2CF9AE}" pid="3" name="KSOProductBuildVer">
    <vt:lpwstr>2052-12.1.0.17857</vt:lpwstr>
  </property>
</Properties>
</file>